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D062-494F-49EB-98AC-1E5D152195E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боту подготовил ученик 8-а класса ЗОШ№3 г.Запорожья Коваленко Антон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читель Карпова Лариса Борис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E7A7-0121-4029-BCE0-084F96CB9BB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Интересны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Учитывая огромную роль воды в жизни человечества и отмечая пуск нового водопровода, жители г.Новороссийска в 1974 году, как сообщала газета "Известия" 24 марта 1974 года, разработали памятник воде. Если он был воздвигнут, то этим актом люди выразили свое преклонение перед этим чудом природы — обыкновенной и вместе с тем необыкновенной в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FCC3-CC83-47A4-811E-BAFF6AFF146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Аномальные свойства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D42B-0DAF-4284-9000-8E673D60DDF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Удивительное ве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Times New Roman"/>
              </a:rPr>
              <a:t>Исследуя воду и, особенно ее водные растворы, ученые раз за разом убеждались, что вода обладает ненормальными — аномальными свойствами, присущими только ей, ее Величеству — Воде, подарившей нам Жизнь и возможность мыслить. Мы даже и не подозреваем, что столь привычные и естественные свойства воды в природе, в различных технологиях, наконец, в обыденной жизни нашей являются уникальными и неповторим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F7E3-29BD-4DE7-ABAB-FEBE8010D11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л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Для всей биосферы исключительна важной особенностью воды является ее способность при замерзании увеличивать, а не уменьшать свой объем, т.е. уменьшать пло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Действительно, при переходе любой жидкости в твердое состояние молекулы располагаются теснее, а само вещество, уменьшаясь в объеме, становится плотнее. Да, для любой из необозримо разных жидкостей, но не воды. Вода здесь представляет ис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ри охлаждении вода сначала ведет себя как и другие жидкости: постепенно уплотняясь, уменьшает свой объем. Такое явление можно наблюдать до +3,98 °С. Затем, при дальнейшем снижении температуры до 0 °С, вся вода замерзает и расширяется в объеме. В результате удельный вес льда становится меньше воды и лед плавает. Если бы лед не всплывал, а тонул, то все водоемы (реки, озера, моря) промерзли бы до дна, испарение бы резко сократилось, все пресноводные животные и растения погибли бы. Жизнь на Земле стала бы невозмо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ода — единственная жидкость на Земле, лед которой не тонет за счет того, что его объем на 1/11 больше объема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E9AB-23A4-414F-866E-92E255E2642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оверхностное нат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Благодаря тому, что круглые шарики воды очень упруги, идет дождь, выпадает 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Что же это за удивительная сила, которая сохраняет капли росы, а поверхностный слой воды в любой лужице делает эластичным и относительно проч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Известно, что если стальную иголку осторожно положить на поверхность воды, налитой в блюдце, то иголка не тонет. А ведь удельная масса металла значительно больше, чем у воды. Молекулы воды связаны силой поверхностного натяжения, которая позволяет им подниматься вверх по капиллярам, преодолевая силу земного притяжения. Без этого свойства воды жизнь на Земле была бы также невозмож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375D-2960-42F5-957B-A2647C8B4FD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Теплоем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и одно вещество в мире не поглощает и не отдает среде столько тепла, сколько вода. Теплоемкость воды в 10 раз больше теплоемкости стали и в 30 раз больше ртути. Вода сохраняет тепл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С поверхности морей, океанов, суши испаряется за год 520000 кубических километров воды, которые, конденсируясь, отдают много тепла холодным и полярным реги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ода в организме человека составляет 70-90%. от веса тела. Не обладай вода такой теплоемкостью, как сейчас, обмен веществ в теплокровных и холоднокровных организмах был бы невозмож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8439-D0AB-4F34-9B17-321E91B050C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гче всего вода нагревается и быстрее всего охлаждается в своеобразной "температурной яме", соответствующ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+37 °С, температуре человеческого тела 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4940-6DE2-45A7-8428-1278DC61315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ще несколько удивительных свойств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 одна жидкость не поглощает газы с такой жадностью, как вода. Но она их также легко от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ждь растворяет в себе все ядовитые газы атмосферы. Вода -ее мощный природный фильтр, очищающий атмосферу от всех вредных и ядовит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но удивительное свойство воды проявляется при воздействии на нее магнитного поля. Вода, подвергнутая магнитной обработке, меняет растворимость солей и скорость химических реа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D4AB-9918-4BB1-B184-D5E0880BA7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Но </a:t>
            </a:r>
            <a:r>
              <a:rPr b="1" lang="ru-RU" sz="1400" spc="-1" strike="noStrike">
                <a:solidFill>
                  <a:srgbClr val="eeece1"/>
                </a:solidFill>
                <a:latin typeface="Calibri"/>
              </a:rPr>
              <a:t>самое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, пожалуй, удивительное свойство воды – это свойство практически универсального растворителя. И если какие-то вещества в ней не растворяются, то и это для жизни сыграло громадную роль в эволюции: скорее всего именно гидрофобным свойствам первичных биологических мембран и обязана жизнь своим появлением и развитием в водной ср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0AC6-4D76-48AC-967B-A98A96B38D5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EB1C-5497-4930-9AFD-B69BB564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9EE-4E7A-4965-8D92-12C61DCA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DCE-BF5D-4599-9E3A-9D4571DE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1AB-DB76-451B-A1F8-CC86EEE5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60A26-17A1-4F6B-91DF-2784195E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58519-12D4-4C4C-946A-AF952312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A0995-80FA-455F-AD4F-2056FB4F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21574-B9D7-4406-8C03-CDEC285C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3C135-94FF-4D8E-90BD-AD3476D3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6736B-638B-4071-B0BC-BC3415E7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6F33B-A035-4CD3-8765-9004495B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7820-7E8A-4712-932A-E51752FF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68A3A-F98C-40D8-A258-BF9AB8EB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062F9-D479-4FDA-B061-08130234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1042A-980A-447C-82A5-158ECBB4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A8BCE-D6A2-4BD0-8259-1C819A34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D833D-3157-4E0E-84FC-63DE8EB3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885-D449-417D-AEB8-43A60D41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B72-9565-45EA-8975-5A7FAF65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B03-BBA8-47ED-AE1D-93CD7DC1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051-2D07-47A0-8F93-805CBF43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008-A796-49BF-93B6-137A08DB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B67-970E-49E5-ADF0-E19F3B36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ED5-CB1A-4B34-AE68-84E237B5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DA29-6415-426D-BE72-BC123A1192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EE05-830A-4CF6-9C2D-3D4DDD8814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12/mezhdusosen.9/0_16c57_6bede103_X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30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d93ff"/>
                </a:solidFill>
                <a:latin typeface="Tahoma"/>
              </a:rPr>
              <a:t>Работу подготовил ученик 8-а класса ЗОШ№3 г.Запорожья Коваленко Антон </a:t>
            </a:r>
            <a:br>
              <a:rPr sz="4000"/>
            </a:br>
            <a:r>
              <a:rPr b="0" lang="ru-RU" sz="4000" spc="-1" strike="noStrike">
                <a:solidFill>
                  <a:srgbClr val="5d93ff"/>
                </a:solidFill>
                <a:latin typeface="Tahoma"/>
              </a:rPr>
              <a:t>Учитель Карпова Лариса Борисов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43213313[1]"/>
          <p:cNvPicPr/>
          <p:nvPr/>
        </p:nvPicPr>
        <p:blipFill>
          <a:blip r:embed="rId1"/>
          <a:stretch/>
        </p:blipFill>
        <p:spPr>
          <a:xfrm>
            <a:off x="2743200" y="2905200"/>
            <a:ext cx="6400800" cy="39528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Интересный фак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Учитывая огромную роль воды в жизни человечества и отмечая пуск нового водопровода, жители г.Новороссийска в 1974 году, как сообщала газета "Известия" 24 марта 1974 года, разработали памятник воде. Если он был воздвигнут, то этим актом люди выразили свое преклонение перед этим чудом природы — обыкновенной и вместе с тем необыкновенной вод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Картинка 3 из 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752480"/>
            <a:ext cx="3371760" cy="44960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Аномальные свойства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2401dc21d5c4[1]"/>
          <p:cNvPicPr/>
          <p:nvPr/>
        </p:nvPicPr>
        <p:blipFill>
          <a:blip r:embed="rId1"/>
          <a:stretch/>
        </p:blipFill>
        <p:spPr>
          <a:xfrm>
            <a:off x="2666880" y="2971800"/>
            <a:ext cx="3743280" cy="31528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Удивительное вещест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imes New Roman"/>
              </a:rPr>
              <a:t>Исследуя воду и, особенно ее водные растворы, ученые раз за разом убеждались, что вода обладает ненормальными — аномальными свойствами, присущими только ей, ее Величеству — Воде, подарившей нам Жизнь и возможность мыслить. Мы даже и не подозреваем, что столь привычные и естественные свойства воды в природе, в различных технологиях, наконец, в обыденной жизни нашей являются уникальными и неповторимы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waterstructure[1]"/>
          <p:cNvPicPr/>
          <p:nvPr/>
        </p:nvPicPr>
        <p:blipFill>
          <a:blip r:embed="rId1"/>
          <a:stretch/>
        </p:blipFill>
        <p:spPr>
          <a:xfrm>
            <a:off x="3505320" y="4267080"/>
            <a:ext cx="1981080" cy="1936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35812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Молекула в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Плот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Для всей биосферы исключительна важной особенностью воды является ее способность при замерзании увеличивать, а не уменьшать свой объем, т.е. уменьшать плот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Действительно, при переходе любой жидкости в твердое состояние молекулы располагаются теснее, а само вещество, уменьшаясь в объеме, становится плотнее. Да, для любой из необозримо разных жидкостей, но не воды. Вода здесь представляет исключ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При охлаждении вода сначала ведет себя как и другие жидкости: постепенно уплотняясь, уменьшает свой объем. Такое явление можно наблюдать до +3,98 °С. Затем, при дальнейшем снижении температуры до 0 °С, вся вода замерзает и расширяется в объеме. В результате удельный вес льда становится меньше воды и лед плавает. Если бы лед не всплывал, а тонул, то все водоемы (реки, озера, моря) промерзли бы до дна, испарение бы резко сократилось, все пресноводные животные и растения погибли бы. Жизнь на Земле стала бы невозмож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Вода — единственная жидкость на Земле, лед которой не тонет за счет того, что его объем на 1/11 больше объема в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Поверхностное натяж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Благодаря тому, что круглые шарики воды очень упруги, идет дождь, выпадает р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Что же это за удивительная сила, которая сохраняет капли росы, а поверхностный слой воды в любой лужице делает эластичным и относительно прочны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Известно, что если стальную иголку осторожно положить на поверхность воды, налитой в блюдце, то иголка не тонет. А ведь удельная масса металла значительно больше, чем у воды. Молекулы воды связаны силой поверхностного натяжения, которая позволяет им подниматься вверх по капиллярам, преодолевая силу земного притяжения. Без этого свойства воды жизнь на Земле была бы также невозмож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Теплоемк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Ни одно вещество в мире не поглощает и не отдает среде столько тепла, сколько вода. Теплоемкость воды в 10 раз больше теплоемкости стали и в 30 раз больше ртути. Вода сохраняет тепло на Зем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С поверхности морей, океанов, суши испаряется за год 520000 кубических километров воды, которые, конденсируясь, отдают много тепла холодным и полярным регион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Вода в организме человека составляет 70-90%. от веса тела. Не обладай вода такой теплоемкостью, как сейчас, обмен веществ в теплокровных и холоднокровных организмах был бы невозмож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image008"/>
          <p:cNvPicPr/>
          <p:nvPr/>
        </p:nvPicPr>
        <p:blipFill>
          <a:blip r:embed="rId1"/>
          <a:stretch/>
        </p:blipFill>
        <p:spPr>
          <a:xfrm>
            <a:off x="1295280" y="2514600"/>
            <a:ext cx="6477120" cy="3886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егче всего вода нагревается и быстрее всего охлаждается в своеобразной "температурной яме", соответствующ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+37 °С, температуре человеческого тела 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ще несколько удивительных свойств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 одна жидкость не поглощает газы с такой жадностью, как вода. Но она их также легко отд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ждь растворяет в себе все ядовитые газы атмосферы. Вода -ее мощный природный фильтр, очищающий атмосферу от всех вредных и ядовитых газ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ще одно удивительное свойство воды проявляется при воздействии на нее магнитного поля. Вода, подвергнутая магнитной обработке, меняет растворимость солей и скорость химических реакц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о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самое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, пожалуй, удивительное свойство воды – это свойство практически универсального растворителя. И если какие-то вещества в ней не растворяются, то и это для жизни сыграло громадную роль в эволюции: скорее всего именно гидрофобным свойствам первичных биологических мембран и обязана жизнь своим появлением и развитием в водной сре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strvoda[1]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28004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20:1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